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camera.wav" ContentType="audio/x-wav"/>
  <Override PartName="/ppt/media/image7.wmf" ContentType="image/x-wm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8CC-2988-4D73-9319-5FAA4CA6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677-0FE1-4345-BBA7-5FE1CB2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A98-CA7E-4472-B6CA-558F5F7F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9A4-302C-415E-9ED8-96DB47B9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7A0-FCF7-4682-85D0-A29EC9B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69C-DEA7-49E1-8BB9-7C0B3849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597-0576-4B59-A789-60B9A078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DE4-1CE9-4746-93D4-A82D81B1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7B9-2784-4691-BEE9-CDFCF024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DD0-811A-4102-BD3F-40D1125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25A-FCB4-42DE-BDA1-D5FEA28A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E24-20BA-4238-8665-218828C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435-D788-4F0B-91A7-3BB3C3FA2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838080"/>
            <a:ext cx="815328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理想中的班级</a:t>
            </a:r>
            <a:endParaRPr b="0" i="1" lang="en-US" sz="80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066680"/>
            <a:ext cx="8153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马克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在集体中，个性才能获得全面发展其才能的手段”，“一个人的发展取决于和他直接或间接进行交往的其他一切人的发展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心理学家勒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的行为是个性与环境中各种力量相互作用的结果，班级集体是学生个性所处环境，情景力场，它影响着学生的行为及个性心理特征、道德规范和行为准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新魏"/>
                <a:ea typeface="华文新魏"/>
              </a:rPr>
              <a:t>教育家马卡连柯：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当我们给个人一种影响的时候，而这影响必定同时应当是给予集体的一种影响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ff"/>
                </a:solidFill>
                <a:latin typeface="_x000b__x000c_"/>
                <a:ea typeface="华文新魏"/>
              </a:rPr>
              <a:t>名人名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-377280"/>
            <a:ext cx="9338400" cy="6096600"/>
            <a:chOff x="0" y="-377280"/>
            <a:chExt cx="9338400" cy="6096600"/>
          </a:xfrm>
        </p:grpSpPr>
        <p:sp>
          <p:nvSpPr>
            <p:cNvPr id="66" name=""/>
            <p:cNvSpPr/>
            <p:nvPr/>
          </p:nvSpPr>
          <p:spPr>
            <a:xfrm>
              <a:off x="0" y="0"/>
              <a:ext cx="7924680" cy="297180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976000">
              <a:off x="374760" y="1736280"/>
              <a:ext cx="3362040" cy="37098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164800">
              <a:off x="5409720" y="304200"/>
              <a:ext cx="3733920" cy="17496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50920" y="358920"/>
            <a:ext cx="849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现在，我们同在一个班集体，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我们的共处的时间不是短短的几个小时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而是整整三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我们之间的关系不是萍水相逢，而是朝夕相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我们的目的地不是某个简单的地方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而是影响到我们一生的大学梦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我们前进的动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全体成员的团结协作和共同努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ebe"/>
                </a:solidFill>
                <a:latin typeface="宋体"/>
              </a:rPr>
              <a:t>话题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78469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  <a:ea typeface="华文行楷"/>
              </a:rPr>
              <a:t>我该怎么办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行楷"/>
              </a:rPr>
              <a:t>?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ebe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ebe"/>
                </a:solidFill>
                <a:latin typeface="宋体"/>
                <a:ea typeface="隶书"/>
              </a:rPr>
              <a:t>王华和朋友约好周日去公园打篮球，这是他梦寐以求的愿望，心中异常高兴。今天，学校通知周日组织运动会，要求各班学生无故不得请假，活动之后评选先进班级，王华听到通知后，心中七上八下，放弃与朋友的聚会不甘心，不参加学校运动会又怕受到老师和同学们批评，一时不知如何是好，心里烦躁不安。</a:t>
            </a:r>
            <a:r>
              <a:rPr b="1" lang="zh-CN" sz="2800" spc="-1" strike="noStrike">
                <a:solidFill>
                  <a:srgbClr val="0a0ebe"/>
                </a:solidFill>
                <a:latin typeface="Arial"/>
                <a:ea typeface="隶书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a0eb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周一升旗仪式上，同学们按统一要求穿上校服，唯独张小岩未穿校服，在全班整齐的队伍中格外引人注目。值周同学给他所在的班级扣了</a:t>
            </a:r>
            <a:r>
              <a:rPr b="1" lang="zh-CN" sz="3600" spc="-1" strike="noStrike">
                <a:solidFill>
                  <a:srgbClr val="0a0ebe"/>
                </a:solidFill>
                <a:latin typeface="Arial"/>
                <a:ea typeface="隶书"/>
              </a:rPr>
              <a:t>1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分。事后，同学们批评他给班集体抹了黑，他还不服气说：</a:t>
            </a:r>
            <a:r>
              <a:rPr b="1" lang="zh-CN" sz="3600" spc="-1" strike="noStrike">
                <a:solidFill>
                  <a:srgbClr val="0a0ebe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我昨天晚上洗的校服没有干，怎么穿</a:t>
            </a:r>
            <a:r>
              <a:rPr b="1" lang="zh-CN" sz="3600" spc="-1" strike="noStrike">
                <a:solidFill>
                  <a:srgbClr val="0a0ebe"/>
                </a:solidFill>
                <a:latin typeface="Arial"/>
                <a:ea typeface="隶书"/>
              </a:rPr>
              <a:t>?</a:t>
            </a:r>
            <a:r>
              <a:rPr b="1" lang="zh-CN" sz="3600" spc="-1" strike="noStrike">
                <a:solidFill>
                  <a:srgbClr val="0a0ebe"/>
                </a:solidFill>
                <a:latin typeface="宋体"/>
                <a:ea typeface="隶书"/>
              </a:rPr>
              <a:t>别的班不是也有没穿校服的吗</a:t>
            </a:r>
            <a:r>
              <a:rPr b="1" lang="zh-CN" sz="3600" spc="-1" strike="noStrike">
                <a:solidFill>
                  <a:srgbClr val="0a0ebe"/>
                </a:solidFill>
                <a:latin typeface="Arial"/>
                <a:ea typeface="隶书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533520"/>
            <a:ext cx="54385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他给集体带来了…… </a:t>
            </a:r>
            <a:endParaRPr b="0" lang="en-US" sz="44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华文彩云"/>
              </a:rPr>
              <a:t>这里有没有你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华文彩云"/>
              <a:ea typeface="华文彩云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905120"/>
            <a:ext cx="449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歧视同学甚至戏弄同学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02800" y="243828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不关心集体甚至做出损害集体荣誉的事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2720" y="1295280"/>
            <a:ext cx="36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同学被老师表扬，不加以鼓励反而起哄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46720" y="2895480"/>
            <a:ext cx="38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课堂上故意大声回答问题，影响别人听课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4290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做练习、作业碰到难题时，不经思考就马上问同学，或干脆抄别人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343400"/>
            <a:ext cx="76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同学有不懂的问题请教你，不予理睬或干脆拿作业本让别人抄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07720" y="5211720"/>
            <a:ext cx="468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990000"/>
                </a:solidFill>
                <a:latin typeface="Verdana"/>
                <a:ea typeface="幼圆"/>
              </a:rPr>
              <a:t>上课听不懂时，干脆不听了，讲话、看课外书或睡觉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38840" y="5897520"/>
            <a:ext cx="26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  <a:ea typeface="幼圆"/>
              </a:rPr>
              <a:t>被老师叫起来，一问三不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29000" y="1143000"/>
            <a:ext cx="36576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1603800" y="2594520"/>
            <a:ext cx="50418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黑体"/>
              </a:rPr>
              <a:t>身边的故事</a:t>
            </a:r>
            <a:endParaRPr b="1" lang="en-US" sz="4000" spc="1" strike="noStrike">
              <a:ln w="0">
                <a:noFill/>
              </a:ln>
              <a:solidFill>
                <a:srgbClr val="00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38088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华文彩云"/>
              </a:rPr>
              <a:t>这里有没有你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华文彩云"/>
              <a:ea typeface="华文彩云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72428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66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336600"/>
                </a:solidFill>
                <a:latin typeface="Verdana"/>
                <a:ea typeface="幼圆"/>
              </a:rPr>
              <a:t>老师牺牲时间帮助你复习，你不但感激反而埋怨、不耐烦…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447920"/>
            <a:ext cx="523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cc0099"/>
                </a:solidFill>
                <a:latin typeface="Verdana"/>
                <a:ea typeface="幼圆"/>
              </a:rPr>
              <a:t>考砸了，就灰心丧气，不敢正视问题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9810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000ff"/>
                </a:solidFill>
                <a:latin typeface="Verdana"/>
                <a:ea typeface="幼圆"/>
              </a:rPr>
              <a:t>明明是自己不努力，却总是找老师和父母的原因，就是不肯虚心接受批评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77320" y="5562720"/>
            <a:ext cx="7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ff"/>
                </a:solidFill>
                <a:latin typeface="Verdana"/>
                <a:ea typeface="幼圆"/>
              </a:rPr>
              <a:t>肆意挥霍父母的血汗钱，一味追求物质享受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3526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080808"/>
                </a:solidFill>
                <a:latin typeface="Verdana"/>
                <a:ea typeface="幼圆"/>
              </a:rPr>
              <a:t>从不记得父母和老师给自己的爱，一旦师长疏忽，似乎全世界最可怜的人就是自己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6400" y="4191120"/>
            <a:ext cx="435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9900"/>
                </a:solidFill>
                <a:latin typeface="Verdana"/>
                <a:ea typeface="幼圆"/>
              </a:rPr>
              <a:t>浪费宝贵时间，来到学校只想着谈天说笑，混日子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62240" y="2819520"/>
            <a:ext cx="62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@</a:t>
            </a:r>
            <a:r>
              <a:rPr b="1" lang="zh-CN" sz="2200" spc="-1" strike="noStrike">
                <a:solidFill>
                  <a:srgbClr val="ff0000"/>
                </a:solidFill>
                <a:latin typeface="Verdana"/>
                <a:ea typeface="幼圆"/>
              </a:rPr>
              <a:t>参加竞选落选了，就觉得自己总不如别人、不思进取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8120" y="2057400"/>
            <a:ext cx="36576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要改正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98108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勤奋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机智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爱心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勇敢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细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谦和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韧劲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最欣赏——————同学的正直，具体表现在——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28600"/>
            <a:ext cx="4038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在我们班，如果以欣赏的眼光看人，每个同学都有自身的长处，让我们在欣赏别人的同时，交流所获得的积极而丰富的情感体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117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70960" y="53341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强调全面发展，并且敢于创造，善于创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86064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相信“我们能行”，并努力争取达到“我们能行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"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668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尊重别人，承认差异，看到别人的长处，认识到自己的缺点，客观评价自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41300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Verdana"/>
              </a:rPr>
              <a:t>）首先要消除歧视，学会尊重、互助、合作，共同进步，打好团结的基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0"/>
            <a:ext cx="237672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倡议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92160" y="3168720"/>
            <a:ext cx="984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级宣言 </a:t>
            </a:r>
            <a:br>
              <a:rPr sz="64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环境优雅，秩序井然，纪律严谨，积极进取，团结友爱， 乐于奉献。为创建进步和谐的三班而努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9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都在同一条船上，如果没有目标，任何风向都不是顺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981000"/>
            <a:ext cx="68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方正舒体"/>
                <a:ea typeface="方正舒体"/>
              </a:rPr>
              <a:t>长风破浪应有时，直挂云帆济沧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640" y="1700280"/>
            <a:ext cx="762012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尽我力为班添光彩！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2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95280" y="260280"/>
            <a:ext cx="67057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540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希望三班的全体同学</a:t>
            </a:r>
            <a:endParaRPr b="0" lang="en-US" sz="4800" spc="1" strike="noStrike">
              <a:ln w="540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30481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仿宋_GB2312"/>
              </a:rPr>
              <a:t>音乐欣赏</a:t>
            </a:r>
            <a:endParaRPr b="1" lang="en-US" sz="60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仿宋_GB2312"/>
              <a:ea typeface="仿宋_GB2312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03640" y="260280"/>
            <a:ext cx="5646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12600">
                  <a:solidFill>
                    <a:srgbClr val="80008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众人划浆开大船</a:t>
            </a:r>
            <a:endParaRPr b="1" lang="en-US" sz="6600" spc="1" strike="noStrike">
              <a:ln cap="sq" w="12600">
                <a:solidFill>
                  <a:srgbClr val="80008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5">
                                  <p:stCondLst>
                                    <p:cond delay="14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0864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寓言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舒体"/>
              </a:rPr>
              <a:t>一只狮子与三头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2879640" cy="3311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2827440" cy="258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0492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有三头公牛总是在一块吃草。一头狮子很想吃掉它们，可这三头公牛非常团结，一旦发生情况便互相合作，共同对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为了吃这三头公牛，狮子绞尽脑汁，终于想出了一条诡计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它先找到牛老大，对它说：“牛大哥呀，你这么聪明强壮，怎么能跟那两个蠢牛在一起呢？它们处处占你的便宜，你找到了嫩绿的草地，它们便毫无理由地吃。它们还在背后说了你许多坏话……”牛老大信以为真，很生气。狮子见到这种情形，暗暗高兴，便离开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它又找到了牛老二、牛老三，对它们说了同样的话，牛老二、牛老三也相信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早晨，这三头公牛都绷着脸，各自只顾自己，分散吃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狮子一看机会来了，找到了牛老三，把牛老三咬死了，美美地吃了一顿。它决定第二天再去吃那两头笨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653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6531"/>
                </a:solidFill>
                <a:latin typeface="宋体"/>
              </a:rPr>
              <a:t>然而，这个消息传到了另外两头公牛的耳朵里，它们这才醒悟过来，决定团结起来，打败狮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6560" y="549000"/>
            <a:ext cx="76201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1cbd0b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cbd0b"/>
                </a:solidFill>
                <a:latin typeface="宋体"/>
              </a:rPr>
              <a:t>第二天，狮子刚走进草地，牛老大、牛老二齐心协力向狮子扑去，终于赶走了狮子。</a:t>
            </a:r>
            <a:r>
              <a:rPr b="1" lang="zh-CN" sz="4400" spc="-1" strike="noStrike">
                <a:solidFill>
                  <a:srgbClr val="1cbd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6400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团结就是力量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团结才能胜利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a0ebe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0ebe"/>
                </a:solidFill>
                <a:latin typeface="宋体"/>
              </a:rPr>
              <a:t>每一个人都要生活在集体之中，无论是学习、工作、生活、娱乐，每个人都离不开与他人的接触与合作。个人与集体，就像鱼儿离不开水，鸟儿离不开林一样。</a:t>
            </a:r>
            <a:r>
              <a:rPr b="1" lang="zh-CN" sz="3600" spc="-1" strike="noStrike">
                <a:solidFill>
                  <a:srgbClr val="0a0ebe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00240" y="762120"/>
            <a:ext cx="4943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cap="sq" w="1260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演讲：集体是纽带 </a:t>
            </a:r>
            <a:endParaRPr b="1" lang="en-US" sz="4400" spc="1" strike="noStrike">
              <a:ln cap="sq" w="12600">
                <a:solidFill>
                  <a:srgbClr val="00ff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ebe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a0ebe"/>
                </a:solidFill>
                <a:latin typeface="宋体"/>
              </a:rPr>
              <a:t>一个人的智慧和力量是有限的。但是，如果把个人的智慧和力量融入集体之中，就会变成取之不尽，用之不竭的集体智慧和力量；创造出非凡的成就。不积跬步，无以至千里，不积小流，无以成江海。让我们每个人从我做起，从身边的小事做起。用拳拳之心报答温馨、可爱的集体：让我们从现在做起，从自己做起，为建设大大小小的集体添砖加瓦，把个人的精力和聪明才智，融汇在集体的事业中，为祖国、为人民作出自己的贡献吧</a:t>
            </a:r>
            <a:r>
              <a:rPr b="1" lang="zh-CN" sz="3200" spc="-1" strike="noStrike">
                <a:solidFill>
                  <a:srgbClr val="0a0ebe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0:30Z</dcterms:modified>
  <cp:revision>1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